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4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62BC-30DC-4528-9DA8-B479EF19E6B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892D-B4AB-422D-B732-8BCEB5C79AB8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EF23-EE06-4848-B8AF-C06E49AAA8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5F1A-D7B4-4E05-B72F-FD324BF870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2A8F-1026-48B0-8FCC-7E9042788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30ED-8E59-4803-AE77-2FD0506680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9309-5B87-4407-9806-A7CC6BBF0C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898F-B29B-4343-AE1A-5EBED01952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0231-E209-4EC1-99CA-4DEA1597B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F12F-7ECD-4782-8384-7E9A4AD2DD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38C4-7E20-4177-896C-C1A027B42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159C-E47A-4D56-B1BA-971D96E5C7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B5EA-F6DF-4430-BEFB-99302947C9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815C-A4E1-44E7-B27C-21F134D7B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2e75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22510"/>
          <a:stretch/>
        </p:blipFill>
        <p:spPr>
          <a:xfrm>
            <a:off x="2971800" y="380880"/>
            <a:ext cx="1695600" cy="175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10233" r="0" b="10233"/>
          <a:stretch/>
        </p:blipFill>
        <p:spPr>
          <a:xfrm>
            <a:off x="7524720" y="174600"/>
            <a:ext cx="1619280" cy="194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0" t="0" r="0" b="14997"/>
          <a:stretch/>
        </p:blipFill>
        <p:spPr>
          <a:xfrm>
            <a:off x="4572000" y="457200"/>
            <a:ext cx="2971800" cy="168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0" t="0" r="4999" b="31681"/>
          <a:stretch/>
        </p:blipFill>
        <p:spPr>
          <a:xfrm>
            <a:off x="1371600" y="304920"/>
            <a:ext cx="1689120" cy="182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7011" t="0" r="21034" b="0"/>
          <a:stretch/>
        </p:blipFill>
        <p:spPr>
          <a:xfrm>
            <a:off x="-4680" y="533520"/>
            <a:ext cx="1536480" cy="16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162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"/>
            <a:ext cx="0" cy="1905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618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e75d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e75d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ducation.vic.gov.au/studentlearning/teachingresources/maths/assessmen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75d9"/>
                </a:solidFill>
                <a:latin typeface="Trebuchet MS"/>
                <a:ea typeface="宋体"/>
              </a:rPr>
              <a:t>Why coaching? Coaching within a student learning context 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2e75d9"/>
                </a:solidFill>
                <a:latin typeface="Trebuchet MS"/>
                <a:ea typeface="宋体"/>
              </a:rPr>
              <a:t>Cathy Beesey</a:t>
            </a:r>
            <a:br>
              <a:rPr sz="2800"/>
            </a:br>
            <a:r>
              <a:rPr b="1" lang="en-US" sz="2800" spc="-1" strike="noStrike">
                <a:solidFill>
                  <a:srgbClr val="2e75d9"/>
                </a:solidFill>
                <a:latin typeface="Trebuchet MS"/>
                <a:ea typeface="宋体"/>
              </a:rPr>
              <a:t>Student Learning Division</a:t>
            </a:r>
            <a:r>
              <a:rPr b="1" lang="en-US" sz="3600" spc="-1" strike="noStrike">
                <a:solidFill>
                  <a:srgbClr val="226189"/>
                </a:solidFill>
                <a:latin typeface="Trebuchet MS"/>
                <a:ea typeface="宋体"/>
              </a:rPr>
              <a:t> </a:t>
            </a:r>
            <a:endParaRPr b="1" lang="en-US" sz="36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Messages from the Literacy Specialists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Building relationships and trust is centra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It’s a learning journey for principals, teachers, students and coache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es working differently with every teacher –flexibly and responsively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ntinual use of data at each phase of the coaching process is vita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It is most effective when the leadership team in the school leads the initiativ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184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75d9"/>
                </a:solidFill>
                <a:latin typeface="Trebuchet MS"/>
                <a:ea typeface="宋体"/>
              </a:rPr>
              <a:t>Responding to diverse student needs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59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Victorian Essential Learning Standard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Principles of Learning and Teaching P-12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Assessment for, of and as learning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Curriculum planning with the learner at the centr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Digital resource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Victorian Essential Learning Standards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303200"/>
            <a:ext cx="78483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620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26189"/>
                </a:solidFill>
                <a:latin typeface="Trebuchet MS"/>
                <a:ea typeface="ＭＳ Ｐゴシック"/>
              </a:rPr>
              <a:t>Split screen th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341360"/>
            <a:ext cx="4176720" cy="4680000"/>
          </a:xfrm>
          <a:prstGeom prst="rect">
            <a:avLst/>
          </a:prstGeom>
          <a:noFill/>
          <a:ln w="38160">
            <a:solidFill>
              <a:srgbClr val="7b0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341360"/>
            <a:ext cx="4465440" cy="4680000"/>
          </a:xfrm>
          <a:prstGeom prst="rect">
            <a:avLst/>
          </a:prstGeom>
          <a:noFill/>
          <a:ln w="38160">
            <a:solidFill>
              <a:srgbClr val="7b0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3743280" cy="3024000"/>
          </a:xfrm>
          <a:prstGeom prst="cloudCallout">
            <a:avLst>
              <a:gd name="adj1" fmla="val -43763"/>
              <a:gd name="adj2" fmla="val 67638"/>
            </a:avLst>
          </a:prstGeom>
          <a:solidFill>
            <a:srgbClr val="ccffff"/>
          </a:solidFill>
          <a:ln w="19080">
            <a:solidFill>
              <a:srgbClr val="226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278136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226189"/>
                </a:solidFill>
                <a:latin typeface="Arial"/>
              </a:rPr>
              <a:t>Mathematics or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27640" y="2781360"/>
            <a:ext cx="4176720" cy="1800000"/>
            <a:chOff x="4427640" y="2781360"/>
            <a:chExt cx="4176720" cy="1800000"/>
          </a:xfrm>
        </p:grpSpPr>
        <p:sp>
          <p:nvSpPr>
            <p:cNvPr id="137" name=""/>
            <p:cNvSpPr/>
            <p:nvPr/>
          </p:nvSpPr>
          <p:spPr>
            <a:xfrm>
              <a:off x="4427640" y="2781360"/>
              <a:ext cx="4176720" cy="1800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ebe1e8"/>
            </a:solidFill>
            <a:ln w="1908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90680" y="3427200"/>
              <a:ext cx="28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400" spc="-1" strike="noStrike">
                  <a:solidFill>
                    <a:srgbClr val="226189"/>
                  </a:solidFill>
                  <a:latin typeface="Arial"/>
                </a:rPr>
                <a:t>Communic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372360" y="3789360"/>
            <a:ext cx="2447640" cy="1871640"/>
            <a:chOff x="6372360" y="3789360"/>
            <a:chExt cx="2447640" cy="1871640"/>
          </a:xfrm>
        </p:grpSpPr>
        <p:sp>
          <p:nvSpPr>
            <p:cNvPr id="140" name=""/>
            <p:cNvSpPr/>
            <p:nvPr/>
          </p:nvSpPr>
          <p:spPr>
            <a:xfrm>
              <a:off x="6372360" y="3789360"/>
              <a:ext cx="2447640" cy="1871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7f7f7"/>
            </a:solidFill>
            <a:ln w="1908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3920" y="4461120"/>
              <a:ext cx="16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400" spc="-1" strike="noStrike">
                  <a:solidFill>
                    <a:srgbClr val="226189"/>
                  </a:solidFill>
                  <a:latin typeface="Arial"/>
                </a:rPr>
                <a:t>I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084720" y="1268280"/>
            <a:ext cx="2664000" cy="1800360"/>
            <a:chOff x="6084720" y="1268280"/>
            <a:chExt cx="2664000" cy="1800360"/>
          </a:xfrm>
        </p:grpSpPr>
        <p:sp>
          <p:nvSpPr>
            <p:cNvPr id="143" name=""/>
            <p:cNvSpPr/>
            <p:nvPr/>
          </p:nvSpPr>
          <p:spPr>
            <a:xfrm>
              <a:off x="6084720" y="1268280"/>
              <a:ext cx="2664000" cy="1800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ccffcc"/>
            </a:solidFill>
            <a:ln w="1908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4720" y="1914480"/>
              <a:ext cx="179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400" spc="-1" strike="noStrike">
                  <a:solidFill>
                    <a:srgbClr val="226189"/>
                  </a:solidFill>
                  <a:latin typeface="Arial"/>
                </a:rPr>
                <a:t>Personal lear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419640" y="2492280"/>
            <a:ext cx="3024000" cy="649440"/>
          </a:xfrm>
          <a:prstGeom prst="line">
            <a:avLst/>
          </a:prstGeom>
          <a:ln w="38160">
            <a:solidFill>
              <a:srgbClr val="7b007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71280" y="3933720"/>
            <a:ext cx="2305080" cy="0"/>
          </a:xfrm>
          <a:prstGeom prst="line">
            <a:avLst/>
          </a:prstGeom>
          <a:ln w="38160">
            <a:solidFill>
              <a:srgbClr val="7b007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058920" y="4581360"/>
            <a:ext cx="3384360" cy="648000"/>
          </a:xfrm>
          <a:prstGeom prst="line">
            <a:avLst/>
          </a:prstGeom>
          <a:ln w="38160">
            <a:solidFill>
              <a:srgbClr val="7b007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404640"/>
            <a:ext cx="828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Assessing for </a:t>
            </a:r>
            <a:r>
              <a:rPr b="1" lang="en-AU" sz="3600" spc="-1" strike="noStrike">
                <a:solidFill>
                  <a:srgbClr val="ae0040"/>
                </a:solidFill>
                <a:latin typeface="Trebuchet MS"/>
              </a:rPr>
              <a:t>understa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Three purposes of Assessment: FOR, OF, and AS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391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3213000"/>
            <a:ext cx="28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2a189"/>
                </a:solidFill>
                <a:latin typeface="Arial"/>
              </a:rPr>
              <a:t>Plan</a:t>
            </a:r>
            <a:r>
              <a:rPr b="0" lang="en-AU" sz="2400" spc="-1" strike="noStrike">
                <a:solidFill>
                  <a:srgbClr val="32a18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32a189"/>
                </a:solidFill>
                <a:latin typeface="Arial"/>
              </a:rPr>
              <a:t>for assessment of understanding as a critical element of learning and 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321300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2a189"/>
                </a:solidFill>
                <a:latin typeface="Arial"/>
              </a:rPr>
              <a:t>Make assessment requirements clear from the out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Principles of Learning and Teaching P - 12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1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The learning environment is supportive and productive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2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The learning environment promotes independence, interdependence and self-motivation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3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Students’ needs, backgrounds, perspectives and interests are reflected in the learning program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4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Students are challenged and supported to develop deep levels of thinking and application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5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Assessment practices are an integral part of teaching and learning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6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Learning connects strongly with communities and practice beyond the classroom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95280" y="76212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discip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4076640"/>
            <a:ext cx="2057400" cy="175284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eneral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56536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74320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590920"/>
            <a:ext cx="201600" cy="1342800"/>
          </a:xfrm>
          <a:prstGeom prst="upDownArrow">
            <a:avLst>
              <a:gd name="adj1" fmla="val 50000"/>
              <a:gd name="adj2" fmla="val 132597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581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337600">
            <a:off x="3276720" y="1773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516400">
            <a:off x="3276000" y="4797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Resources to support increased pedagogical content knowledge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Mathematics and Science Continua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Maths and Science ICT Showcase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Assessment tool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Mathematics Online Interview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Scaffolding Numeracy in the Middle Years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Science Education Assessment Resources (Department of Education, Employment and Workplace Relations)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Science Continuum P-10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58920" y="1052640"/>
            <a:ext cx="6913440" cy="4752360"/>
            <a:chOff x="1258920" y="1052640"/>
            <a:chExt cx="6913440" cy="4752360"/>
          </a:xfrm>
        </p:grpSpPr>
        <p:grpSp>
          <p:nvGrpSpPr>
            <p:cNvPr id="166" name=""/>
            <p:cNvGrpSpPr/>
            <p:nvPr/>
          </p:nvGrpSpPr>
          <p:grpSpPr>
            <a:xfrm>
              <a:off x="1258920" y="1052640"/>
              <a:ext cx="6913440" cy="4752360"/>
              <a:chOff x="1258920" y="1052640"/>
              <a:chExt cx="6913440" cy="47523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258920" y="1052640"/>
                <a:ext cx="6913440" cy="4752360"/>
                <a:chOff x="1258920" y="1052640"/>
                <a:chExt cx="6913440" cy="4752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258920" y="1052640"/>
                  <a:ext cx="6913440" cy="230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ffffff"/>
                      </a:solidFill>
                      <a:latin typeface="Arial"/>
                    </a:rPr>
                    <a:t>VELS Science standards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Science Knowledge &amp; Understanding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Science at Work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58920" y="2310840"/>
                  <a:ext cx="6913440" cy="3494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26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Science concept development map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00040" y="2659320"/>
                  <a:ext cx="89064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Mat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99400" y="2659320"/>
                  <a:ext cx="163872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Living thing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79600" y="2659320"/>
                  <a:ext cx="192276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Forces &amp; motio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47440" y="2659320"/>
                  <a:ext cx="171072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Earth &amp; spac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970640" y="3708360"/>
                <a:ext cx="5415840" cy="1397160"/>
              </a:xfrm>
              <a:prstGeom prst="roundRect">
                <a:avLst>
                  <a:gd name="adj" fmla="val 16667"/>
                </a:avLst>
              </a:prstGeom>
              <a:solidFill>
                <a:srgbClr val="32a18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000" spc="-1" strike="noStrike">
                    <a:solidFill>
                      <a:srgbClr val="ffffff"/>
                    </a:solidFill>
                    <a:latin typeface="Arial"/>
                  </a:rPr>
                  <a:t>Focus Idea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Student everyday experiences vs scientific view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Critical teaching idea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Teaching activiti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Links to further resourc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85880" y="3148920"/>
                <a:ext cx="0" cy="1327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85880" y="4476960"/>
                <a:ext cx="28440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971720" y="2240280"/>
              <a:ext cx="5418000" cy="418680"/>
              <a:chOff x="1971720" y="2240280"/>
              <a:chExt cx="5418000" cy="41868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0720" y="2240280"/>
                <a:ext cx="0" cy="20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971720" y="2449440"/>
                <a:ext cx="541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7208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4024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3572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8972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Science Showcase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91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Day and Nigh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Friction is a Force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The Particle Theory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Wonders of the Universe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1682640"/>
            <a:ext cx="4321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New Image"/>
          <p:cNvPicPr/>
          <p:nvPr/>
        </p:nvPicPr>
        <p:blipFill>
          <a:blip r:embed="rId1"/>
          <a:stretch/>
        </p:blipFill>
        <p:spPr>
          <a:xfrm>
            <a:off x="3995640" y="1844640"/>
            <a:ext cx="2546280" cy="316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2050920" y="5373720"/>
            <a:ext cx="709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 u="sng">
                <a:solidFill>
                  <a:srgbClr val="63ba3c"/>
                </a:solidFill>
                <a:uFillTx/>
                <a:latin typeface="Arial"/>
                <a:hlinkClick r:id="rId2"/>
              </a:rPr>
              <a:t>www.education.vic.gov.au/studentlearning/teachingresources/maths/assessment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050920" y="90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Mathematics Online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76212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discip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4076640"/>
            <a:ext cx="2057400" cy="175284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eneral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56536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274320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590920"/>
            <a:ext cx="201600" cy="1342800"/>
          </a:xfrm>
          <a:prstGeom prst="upDownArrow">
            <a:avLst>
              <a:gd name="adj1" fmla="val 50000"/>
              <a:gd name="adj2" fmla="val 132597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581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337600">
            <a:off x="3276720" y="1773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8516400">
            <a:off x="3276000" y="4797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  <a:ea typeface="宋体"/>
              </a:rPr>
              <a:t>Coaching – a collaborative process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Collection of student data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Analysis of student data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Effective use of student data to plan for learning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Delivery of high quality learning experience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Reflection on learning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Supporting teachers in curriculum planning and delivery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Templates for planning (online)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Students working in an online environment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Monitoring student learning 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Support readiness for the Ultranet leading to high quality use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Champion the Ultrane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How will you know that you are successful in your role as a coach?  What will it look, sound and feel like for you, for the teachers, for the students?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This initiative  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Provide one-to-one coaching for teachers in classroom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Focus on building the capacity of teachers rather than intervention with student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Build sustainable practice in school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91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Teacher coaching is a highly sophisticated form of school-based professional reflective practice.  It is a series of conversations designed to assist teachers to extend their personal and professional learning and improve student achievement.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Julie Boyd in School Based Professional Learning, Reflective Practice and Coaching 2000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Why coaching?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is connected to and derived from teachers’ work with their student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is related to and situated within classroom practic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facilitates learning and reciprocal accountability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provides a structure for collective, interconnected leadership across a schoo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encourages collaborative, reflective practice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  <a:ea typeface="宋体"/>
              </a:rPr>
              <a:t>Building relationships 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Rappor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Listen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Pause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Paraphrase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Promp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Question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08360" y="1717560"/>
            <a:ext cx="48243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Building on our achievements and learning from our experiences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Cluster Educator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Building the Capacity of Professional Learning Leaders in Clusters and School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ICT Peer Coaching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PoLT Leading Change Training Program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CeLL Partners in Learning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Intel Teach To The Futur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ePotential ICT Capabilities Resource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Building on our achievements and learning from our experiences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Early Numeracy Research Project (1999 – 2001)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Middle Years Numeracy Research Project (1999 &amp; 2000)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Scaffolding Numeracy in the Middle Year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School Innovation in Science 2003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School Innovation in Teaching – Science, Mathematics and Technology 2006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Digilearn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Victorian Education Channe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Literacy Improvement Teams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Three year initiative (2006-08) to improve student literacy outcomes through the employment of 45 literacy specialists to coach teachers in identified schools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The aim was to increase teachers’ capacity to improve the literacy learning outcomes of Years 3-8 students in these schools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Schools were identified on the basis of having significant numbers of students in Years 3-8 achieving lower than expected literacy learning outcomes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In 2007, the specialists provided intensive 1:1 coaching to over 600 individual teachers in 160 targeted schools; over 10,000 students were supported by this initiative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4:15:41Z</dcterms:created>
  <dc:creator>megan pearce</dc:creator>
  <dc:description/>
  <dc:language>en-US</dc:language>
  <cp:lastModifiedBy>08151179</cp:lastModifiedBy>
  <dcterms:modified xsi:type="dcterms:W3CDTF">2008-02-08T04:00:25Z</dcterms:modified>
  <cp:revision>129</cp:revision>
  <dc:subject/>
  <dc:title>Title here Background colour may change</dc:title>
</cp:coreProperties>
</file>